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5.gif" ContentType="image/gif"/>
  <Override PartName="/ppt/media/image16.wmf" ContentType="image/x-wmf"/>
  <Override PartName="/ppt/media/image1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09A-4586-4DAF-B2F8-BDFD6D74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207-52C5-47AF-9645-AE81E957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F32-8A9D-4EFE-B0E4-EC0D2081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88E-946F-4971-A32D-CDBB61C8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516-CC4E-4E2E-8B20-52473C80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9A7-28AA-4F29-8326-AC004351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6FD-D9A6-486F-8C94-D0C56576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1AF-8043-4BDD-A484-E6C3E6E8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867-0F75-4F57-9276-5DDE5F06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676-7D25-4C40-848B-F807B90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A1A-E9AE-4F53-AA29-6FC7F33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C11-3921-40BE-B56D-F040BB8B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D1EC-7881-403C-82AF-49566B3556A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yvibor.ru/poleznoe_info/psihika/psihika18.html" TargetMode="External"/><Relationship Id="rId2" Type="http://schemas.openxmlformats.org/officeDocument/2006/relationships/hyperlink" Target="http://flogiston.ru/articles/netpsy/gameaddict2" TargetMode="External"/><Relationship Id="rId3" Type="http://schemas.openxmlformats.org/officeDocument/2006/relationships/hyperlink" Target="http://www.tiensmed.ru/programmer4.html" TargetMode="External"/><Relationship Id="rId4" Type="http://schemas.openxmlformats.org/officeDocument/2006/relationships/hyperlink" Target="http://www.kluchnikov.ru/statji/kompjyuternaya-zavisimostj.html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572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nstantia"/>
              </a:rPr>
              <a:t>«Компьютерная зависимость дете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0320062210111"/>
          <p:cNvPicPr/>
          <p:nvPr/>
        </p:nvPicPr>
        <p:blipFill>
          <a:blip r:embed="rId2"/>
          <a:stretch/>
        </p:blipFill>
        <p:spPr>
          <a:xfrm>
            <a:off x="571680" y="2571840"/>
            <a:ext cx="3886200" cy="3381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43" name="Picture 4" descr="komp_"/>
          <p:cNvPicPr/>
          <p:nvPr/>
        </p:nvPicPr>
        <p:blipFill>
          <a:blip r:embed="rId3"/>
          <a:stretch/>
        </p:blipFill>
        <p:spPr>
          <a:xfrm>
            <a:off x="5072040" y="2052720"/>
            <a:ext cx="3365640" cy="4451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3 Marcador de contenido" descr="4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Мы живем в современном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</a:rPr>
              <a:t>XXI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веке, в котором постоянно осуществляются модернизирование и технический прогрес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Одним из таких прорывов в технологиях является всеобщая доступность сети Интернет. 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С внедрением новых технологий возникают не только положительные аспекты, но и отрицательные. Одним из таких примеров являет собой интернет-зависимость. В большинстве же своем она проявляется у детей и подростков, т.к. у них еще не сформирована психика, и они не могут контролировать свое пристрастие.</a:t>
            </a: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90560" y="189000"/>
            <a:ext cx="4753080" cy="648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Тревогу по поводу зависимости от интернета зарубежные психологи начали бить еще в середине 90-х. Главным ее признаком назвали "навязчивое желание войти в интернет и неспособность из него выйти". Интернет назвали средством ухода от реальности; поиск информации в Сети -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нформационным вампиризмом</a:t>
            </a: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big_640750"/>
          <p:cNvPicPr/>
          <p:nvPr/>
        </p:nvPicPr>
        <p:blipFill>
          <a:blip r:embed="rId1"/>
          <a:stretch/>
        </p:blipFill>
        <p:spPr>
          <a:xfrm>
            <a:off x="0" y="3471840"/>
            <a:ext cx="450072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что может быть лучше прогулки в лесу или в парке? Создайте детям альтернативу сидению за компьютеро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125000"/>
            <a:ext cx="511164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c0c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Можно выделить </a:t>
            </a:r>
            <a:r>
              <a:rPr b="1" i="1" lang="ru-RU" sz="2000" spc="-1" strike="noStrike" u="sng">
                <a:solidFill>
                  <a:srgbClr val="92d050"/>
                </a:solidFill>
                <a:uFillTx/>
                <a:latin typeface="Calibri"/>
              </a:rPr>
              <a:t>несколько типов интернет зависимости.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Все они делятся по признаку того, что человек с интернет-зависимостью делает в интернет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2d050"/>
                </a:solidFill>
                <a:uFillTx/>
                <a:latin typeface="Calibri"/>
              </a:rPr>
              <a:t>Общение.</a:t>
            </a:r>
            <a:r>
              <a:rPr b="0" lang="ru-RU" sz="2000" spc="-1" strike="noStrike">
                <a:solidFill>
                  <a:srgbClr val="c0c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Calibri"/>
              </a:rPr>
              <a:t>Человек постоянно общается разными способами в интернет. Способы общения могут отличаться, например социальные сети, форумы, чаты, интернет-мессенджеры, электронная почта, бло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2d050"/>
                </a:solidFill>
                <a:uFillTx/>
                <a:latin typeface="Calibri"/>
              </a:rPr>
              <a:t>Развлечения. </a:t>
            </a:r>
            <a:r>
              <a:rPr b="0" lang="ru-RU" sz="2000" spc="-1" strike="noStrike">
                <a:solidFill>
                  <a:srgbClr val="66ccff"/>
                </a:solidFill>
                <a:latin typeface="Calibri"/>
              </a:rPr>
              <a:t>Сюда можно отнести просмотр какого-либо контента в сети. Это могут быть различные картинки, фильмы, электронные книги, он-лайн игры, сетевые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ccff"/>
                </a:solidFill>
                <a:latin typeface="Calibri"/>
              </a:rPr>
              <a:t>Отдельная категория людей пытается заниматься 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Calibri"/>
              </a:rPr>
              <a:t>манимейкерством</a:t>
            </a:r>
            <a:r>
              <a:rPr b="0" lang="ru-RU" sz="2000" spc="-1" strike="noStrike">
                <a:solidFill>
                  <a:srgbClr val="c0c0c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66ccff"/>
                </a:solidFill>
                <a:latin typeface="Calibri"/>
              </a:rPr>
              <a:t>а точнее, зарабатывать деньги в интерне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5106-d24ee833"/>
          <p:cNvPicPr/>
          <p:nvPr/>
        </p:nvPicPr>
        <p:blipFill>
          <a:blip r:embed="rId1"/>
          <a:stretch/>
        </p:blipFill>
        <p:spPr>
          <a:xfrm>
            <a:off x="5651640" y="1198440"/>
            <a:ext cx="3276360" cy="482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00720" y="642960"/>
            <a:ext cx="431928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Некоторые известные психологи считают, что инфомания (а, следовательно и интернет-зависимость), могут вызвать состояния, похожие по своей симптоматике с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наркотической ломкой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Правда, человек не испытывает боли, он просто находится в постоянной депрессии и не может сосредоточиться на выполнении текущи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img_2cef168f8bf2402744a309d3ece84b3d"/>
          <p:cNvPicPr/>
          <p:nvPr/>
        </p:nvPicPr>
        <p:blipFill>
          <a:blip r:embed="rId1"/>
          <a:stretch/>
        </p:blipFill>
        <p:spPr>
          <a:xfrm>
            <a:off x="214200" y="214200"/>
            <a:ext cx="4151520" cy="6429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920" y="1356840"/>
            <a:ext cx="87868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Чем же так привлекает Интернет?</a:t>
            </a:r>
            <a:br>
              <a:rPr sz="3600"/>
            </a:br>
            <a:br>
              <a:rPr sz="1400"/>
            </a:b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  </a:t>
            </a: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1) Анонимность</a:t>
            </a: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4bc3ff"/>
                </a:solidFill>
                <a:latin typeface="Calibri"/>
              </a:rPr>
              <a:t>Человек в сети может проявлять и проявляет большую свободу высказываний и поступков (вплоть до оскорблений, нецензурных выражений, сексуальных домогательств), так как риск разоблачения и личной отрицательной оценки окружающими минимален.</a:t>
            </a:r>
            <a:br>
              <a:rPr sz="1600"/>
            </a:b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   </a:t>
            </a: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2) Создание образа. </a:t>
            </a:r>
            <a:r>
              <a:rPr b="0" lang="ru-RU" sz="1600" spc="-1" strike="noStrike">
                <a:solidFill>
                  <a:srgbClr val="66ffff"/>
                </a:solidFill>
                <a:latin typeface="Calibri"/>
              </a:rPr>
              <a:t>Своеобразие протекания процессов межличностного восприятия в условиях отсутствия невербальной информации. Как правило, сильное влияние на представление о собеседнике имеют механизмы стереотипизации и идентификации, а также установка как ожидание желаемых качеств в партнере.</a:t>
            </a:r>
            <a:br>
              <a:rPr sz="1600"/>
            </a:b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3) Добровольность и желательность контактов. </a:t>
            </a: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Пользователь добровольно завязывает контакты или уходит от них, а также может прервать их в любой момент.</a:t>
            </a:r>
            <a:br>
              <a:rPr sz="1600"/>
            </a:b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4) Отсутствие эмоций. </a:t>
            </a:r>
            <a:r>
              <a:rPr b="0" lang="ru-RU" sz="1600" spc="-1" strike="noStrike">
                <a:solidFill>
                  <a:srgbClr val="05acff"/>
                </a:solidFill>
                <a:latin typeface="Calibri"/>
              </a:rPr>
              <a:t>Затрудненность эмоционального компонента общения и, в то же время, стойкое стремление к эмоциональному наполнению текста, которое выражается в создании специальных значков для обозначения эмоций или в описании эмоций словами (в скобках после основного текста послания).</a:t>
            </a:r>
            <a:br>
              <a:rPr sz="1600"/>
            </a:b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5) Стремление к нетипичному, ненормативному поведению</a:t>
            </a: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66ffff"/>
                </a:solidFill>
                <a:latin typeface="Calibri"/>
              </a:rPr>
              <a:t>Зачастую пользователи презентируют себя с иной стороны, чем в условиях реальной социальной нормы, проигрывают не реализуемые в деятельности вне сети роли, сценарии, ненормативного поведения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2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omic Sans MS"/>
              </a:rPr>
              <a:t>Одиночество больших городо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птомы интернет-зависимости у детей вырастают нередко из родительского отношения. Более чем для 62% московских родителей ребенок – это маленький бог, над которым дрожат от страха – «а вдруг с ним что-то случится?», и малейшие прихоти которого стремятся выполнить – «не то он нам всем испортит жизнь!». Более 65% родителей разрешают своим детям свободно пользоваться Интернетом. Испуг, протест (как часто подростки всей душой любят те занятия, которые ненавидят их родители!) и чувство глубокого внутреннего одиночества приводят в виртуальный мир чудес, где любой может представить себя богом-инкогнито, где забываются семейные, учебные и рабочие проблемы, гасятся страхи, связанные с глубокими  личными переживаниям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оскве люди больше погружены в Сеть, чем жители маленьких городов. Одиночество в большом городе вырастает из психологического отчуждения. Понаблюдаем за пассажирами метро: для отчуждения от взглядов у них есть книга либо мобильный, для отчуждения от звуков – плеер с наушниками. Мы отгораживаемся от мира всеми доступными способами. Интернет – апофеоз отчуждения, он помогает отгородиться от близких, позволяет не решать возникающие проблемы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нно компенсаторная функция Интернета завораживает: ведь в этом мире чудес можно получить то, чего никогда не получишь в жизни, и стать тем, кем никогда не станешь в реальности.</a:t>
            </a:r>
            <a:br>
              <a:rPr sz="1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0" y="0"/>
          <a:ext cx="9325080" cy="699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25080" cy="69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 flipV="1" rot="10828800">
            <a:off x="1493640" y="623520"/>
            <a:ext cx="586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Без Интернета сейчас нельзя представить себе полноценное существование современного общества, поэтому нужно искать альтернативу решению сложившейся проблеме интернет-зависимости у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57800" y="4357800"/>
            <a:ext cx="457200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дители не должны оставлять без внимания своих детей, тогда Интернет-зависимости можно избежать. Постоянно общайтесь со своими детьми. Никогда не поздно рассказать ребенку, как правильно поступать и реагировать на действи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ругих людей в Интерне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00680" y="285480"/>
            <a:ext cx="5000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ей привлекают в Интернете разнообразные сайты, социальные сети, где они могут узнавать что-то новое, но не всегда это «новое» может быть приемлемо для ребенка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Ресурсы Интернета ничем не ограничен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льзователей, а поэтому ребенок может узнать то, чего ему еще знать совсем не нужно. Дети посещают порно-сайты сначала из любопытства, а потом это входит в привычку, эти привычки, складывающиеся у ребенка в результате его взаимодействия с компьютером наедине, кардинально портят психику. Будьте друзьями для своих собственных детей, создавайте такую атмосферу, в которой им хотелось бы больше проводить времени с вами, гулять, нежели  сидеть в душной комнате, за компьюте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633840" cy="386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Calibri"/>
              </a:rPr>
              <a:t>Но нельзя сказать, что Интернет – это зло, нет. Интернет, несомненно важное изобретение человечества, которое помогло обществу шагнуть далеко вперед.</a:t>
            </a:r>
            <a:br>
              <a:rPr sz="2900"/>
            </a:br>
            <a:r>
              <a:rPr b="1" lang="ru-RU" sz="2900" spc="-1" strike="noStrike">
                <a:solidFill>
                  <a:srgbClr val="ffc000"/>
                </a:solidFill>
                <a:latin typeface="Calibri"/>
              </a:rPr>
              <a:t>Весь мир крутится вокруг Интерне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Картинка 427 из 96000"/>
          <p:cNvPicPr/>
          <p:nvPr/>
        </p:nvPicPr>
        <p:blipFill>
          <a:blip r:embed="rId1"/>
          <a:stretch/>
        </p:blipFill>
        <p:spPr>
          <a:xfrm>
            <a:off x="1143000" y="2786040"/>
            <a:ext cx="6786720" cy="3827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88640"/>
            <a:ext cx="450072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Calibri"/>
              </a:rPr>
              <a:t>Положительные черты 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экономия времен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2d050"/>
                </a:solidFill>
                <a:latin typeface="Calibri"/>
              </a:rPr>
              <a:t>способ показать, проявить себя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Найти старых друзей, которых давно потерял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2d050"/>
                </a:solidFill>
                <a:latin typeface="Calibri"/>
              </a:rPr>
              <a:t>возможность звонить по телефону</a:t>
            </a: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делать покупки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2d050"/>
                </a:solidFill>
                <a:latin typeface="Calibri"/>
              </a:rPr>
              <a:t>наличие огромных библиотек всевозможной литературы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возможность многому научиться, получить профессию, либо поднять свои навыки на иной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уровен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получить самые свежие новости узкой либо широкой тема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чаты и ICQ дают возможность общаться в реальном време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Картинка 525 из 96000"/>
          <p:cNvPicPr/>
          <p:nvPr/>
        </p:nvPicPr>
        <p:blipFill>
          <a:blip r:embed="rId1"/>
          <a:stretch/>
        </p:blipFill>
        <p:spPr>
          <a:xfrm>
            <a:off x="4481640" y="285840"/>
            <a:ext cx="4419360" cy="43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Картинка 706 из 96000"/>
          <p:cNvPicPr/>
          <p:nvPr/>
        </p:nvPicPr>
        <p:blipFill>
          <a:blip r:embed="rId2"/>
          <a:stretch/>
        </p:blipFill>
        <p:spPr>
          <a:xfrm>
            <a:off x="6929280" y="4143240"/>
            <a:ext cx="190836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14200" y="428400"/>
            <a:ext cx="8607600" cy="4071960"/>
          </a:xfrm>
          <a:prstGeom prst="rect">
            <a:avLst/>
          </a:prstGeom>
          <a:gradFill rotWithShape="0">
            <a:gsLst>
              <a:gs pos="0">
                <a:srgbClr val="4f81bd">
                  <a:alpha val="53333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5b74f"/>
                </a:solidFill>
                <a:latin typeface="GOST type B"/>
              </a:rPr>
              <a:t>Термин</a:t>
            </a:r>
            <a:r>
              <a:rPr b="1" i="1" lang="ru-RU" sz="3000" spc="-1" strike="noStrike">
                <a:solidFill>
                  <a:srgbClr val="0000ff"/>
                </a:solidFill>
                <a:latin typeface="GOST type B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Arial Rounded MT Bold"/>
              </a:rPr>
              <a:t>«компьютерная зависимость»</a:t>
            </a:r>
            <a:r>
              <a:rPr b="1" i="1" lang="ru-RU" sz="3000" spc="-1" strike="noStrike">
                <a:solidFill>
                  <a:srgbClr val="0000ff"/>
                </a:solidFill>
                <a:latin typeface="GOST type B"/>
              </a:rPr>
              <a:t> </a:t>
            </a:r>
            <a:r>
              <a:rPr b="1" i="1" lang="ru-RU" sz="3000" spc="-1" strike="noStrike">
                <a:solidFill>
                  <a:srgbClr val="95b74f"/>
                </a:solidFill>
                <a:latin typeface="GOST type B"/>
              </a:rPr>
              <a:t>определяет патологическое пристрастие человека к работе или проведению времени за компьютером. Это навязчивое желание включить компьютер и неспособность его выключи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5b74f"/>
                </a:solidFill>
                <a:latin typeface="GOST type B"/>
              </a:rPr>
              <a:t>Человек способен провести в виртуальной реальност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GOST type B"/>
              </a:rPr>
              <a:t>от 5 до 20 часов в сутки</a:t>
            </a:r>
            <a:r>
              <a:rPr b="1" i="1" lang="ru-RU" sz="3000" spc="-1" strike="noStrike">
                <a:solidFill>
                  <a:srgbClr val="0000ff"/>
                </a:solidFill>
                <a:latin typeface="GOST type B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j0254490"/>
          <p:cNvPicPr/>
          <p:nvPr/>
        </p:nvPicPr>
        <p:blipFill>
          <a:blip r:embed="rId1"/>
          <a:stretch/>
        </p:blipFill>
        <p:spPr>
          <a:xfrm>
            <a:off x="5994360" y="4143240"/>
            <a:ext cx="289872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12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992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3640" y="1557000"/>
            <a:ext cx="8569080" cy="4824360"/>
          </a:xfrm>
          <a:prstGeom prst="rect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ffffff">
                  <a:alpha val="1803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Rounded MT Bold"/>
              </a:rPr>
              <a:t>Влияние компьютерных технологий на психику челове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yvibor.ru/poleznoe_info/psihika/psihika18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Rounded MT Bold"/>
              </a:rPr>
              <a:t>Психологические аспекты негативного влияния игровой компьютерной зависимости на личность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logiston.ru/articles/netpsy/gameaddict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Rounded MT Bold"/>
              </a:rPr>
              <a:t>Симптомы компьютерной зависимости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iensmed.ru/programmer4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Rounded MT Bold"/>
              </a:rPr>
              <a:t>Психологическая программа избавления от компьютерной зависи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kluchnikov.ru/statji/kompjyuternaya-zavisimostj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79280" y="189000"/>
            <a:ext cx="97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одробнее о причинах и  симптомах компьютерной зависимости можно прочитать на страницах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serv_parents_sm2"/>
          <p:cNvPicPr/>
          <p:nvPr/>
        </p:nvPicPr>
        <p:blipFill>
          <a:blip r:embed="rId1"/>
          <a:stretch/>
        </p:blipFill>
        <p:spPr>
          <a:xfrm>
            <a:off x="1643040" y="142920"/>
            <a:ext cx="5811840" cy="4707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928800" y="507204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Пусть работа на компьютере и интернет будет Вам и Вашим детям во бла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4f81bd">
                  <a:alpha val="38039"/>
                </a:srgbClr>
              </a:gs>
              <a:gs pos="50000">
                <a:srgbClr val="0000ff">
                  <a:alpha val="72156"/>
                </a:srgbClr>
              </a:gs>
              <a:gs pos="100000">
                <a:srgbClr val="4f81bd">
                  <a:alpha val="3803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Основные симптомы компьютерной зависимости – это:</a:t>
            </a: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Непреодолимая тяга к игре, программированию, работе, связанной с компьютером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b9b8"/>
                </a:solidFill>
                <a:latin typeface="Arial Rounded MT Bold"/>
              </a:rPr>
              <a:t>Пристрастие к поиску информации в се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Чрезмерное увлечение так называемым интернет-серфингом, то есть переходам по ссылкам с сайта на сай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b9b8"/>
                </a:solidFill>
                <a:latin typeface="Arial Rounded MT Bold"/>
              </a:rPr>
              <a:t>Навязчивое желание играть в сетевые игры, делать покупки исключительно в интернет-магазинах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Стремление к частой проверке своего почтового ящи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b9b8"/>
                </a:solidFill>
                <a:latin typeface="Arial Rounded MT Bold"/>
              </a:rPr>
              <a:t>Постоянное ожидание того момента, когда можно будет сесть за компьютер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Подавленное настроение, раздражительность и депрессия в том случае, если то не удается сделать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b9b8"/>
                </a:solidFill>
                <a:latin typeface="Arial Rounded MT Bold"/>
              </a:rPr>
              <a:t>Патологическое увлечение чатами, форумами и социальными сетя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В самых запущенных случаях зависимый человек перестает обращать внимание на свой внешний вид, гигиенические потребности и необходимость принятия пищи.</a:t>
            </a:r>
            <a:r>
              <a:rPr b="1" lang="ru-RU" sz="2400" spc="-1" strike="noStrike">
                <a:solidFill>
                  <a:srgbClr val="eeece1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072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 Black"/>
              </a:rPr>
              <a:t>Как распознать зависимо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26920" y="20178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a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a644"/>
                </a:solidFill>
                <a:latin typeface="Arial"/>
              </a:rPr>
              <a:t>Увлечение компьютерными играми действительно мешает вашему ребенку общаться и учить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Оторванный от игры, ребенок тревожится, не находит себе места, не знает чем занять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a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a644"/>
                </a:solidFill>
                <a:latin typeface="Arial"/>
              </a:rPr>
              <a:t>Увлечение продолжается долго, намного дольше, чем время прохождения одной-двух полюбившихся игр.</a:t>
            </a:r>
            <a:r>
              <a:rPr b="0" lang="ru-RU" sz="2800" spc="-1" strike="noStrike">
                <a:solidFill>
                  <a:srgbClr val="86a64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j0283646"/>
          <p:cNvPicPr/>
          <p:nvPr/>
        </p:nvPicPr>
        <p:blipFill>
          <a:blip r:embed="rId1"/>
          <a:stretch/>
        </p:blipFill>
        <p:spPr>
          <a:xfrm>
            <a:off x="6000840" y="4815000"/>
            <a:ext cx="2771640" cy="204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43040" y="0"/>
            <a:ext cx="56880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В чём причин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480" y="1214280"/>
            <a:ext cx="5500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Потрясающее сходство компьютерной игры и фантазии – это первая и главная причина, благодаря которой происходит слияние сознания ребенка и компьютерной иг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b9b8"/>
                </a:solidFill>
                <a:latin typeface="Arial"/>
              </a:rPr>
              <a:t>Любой ребенок стремится управлять своей жизнью, и это желание удовлетворяется в компьютерных игр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Игра — упрощенная имитация реальности, в которой разнообразие факторов и случайность сведены к минимальной необходимости, поэтому научиться управлять игрой проще, чем жизнь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b9b8"/>
                </a:solidFill>
                <a:latin typeface="Arial"/>
              </a:rPr>
              <a:t>Если ребенок не имеет своей «территории» или она слишком мала для него, то ему намного проще остаться на предыдущей стадии – фантаз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Чрезмерного увлечения компьютерными играми – это отсутствие опыта управления своей собственной жизнь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images"/>
          <p:cNvPicPr/>
          <p:nvPr/>
        </p:nvPicPr>
        <p:blipFill>
          <a:blip r:embed="rId1"/>
          <a:stretch/>
        </p:blipFill>
        <p:spPr>
          <a:xfrm>
            <a:off x="5643720" y="1714680"/>
            <a:ext cx="310968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8929800" cy="7883280"/>
          </a:xfrm>
          <a:prstGeom prst="rect">
            <a:avLst/>
          </a:prstGeom>
          <a:gradFill rotWithShape="0">
            <a:gsLst>
              <a:gs pos="0">
                <a:srgbClr val="0000ff">
                  <a:alpha val="28235"/>
                </a:srgbClr>
              </a:gs>
              <a:gs pos="50000">
                <a:srgbClr val="4f81bd">
                  <a:alpha val="53333"/>
                </a:srgbClr>
              </a:gs>
              <a:gs pos="100000">
                <a:srgbClr val="0000ff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Задумайтесь над поведением ваших детей, ес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6a644"/>
                </a:solidFill>
                <a:latin typeface="Arial Rounded MT Bold"/>
              </a:rPr>
              <a:t>Они наизусть помнят номер своей аськи, внешнего и внутреннего IP адреса, а вот за домашним номером или сотовым номером мамы приходиться гоняться по записной книж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Arial Rounded MT Bold"/>
              </a:rPr>
              <a:t>Отказываются от предложений погулять - все ради того, чтобы пообщаться в irc или посидеть на форум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6a644"/>
                </a:solidFill>
                <a:latin typeface="Arial Rounded MT Bold"/>
              </a:rPr>
              <a:t>Проснувшись, они сначала включают компьютер и только потом идут на кухню ставить чайн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Arial Rounded MT Bold"/>
              </a:rPr>
              <a:t>Им легче называть друзей по их никам в Сети, а не по именам, да и фамилии они их толком не знаю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6a644"/>
                </a:solidFill>
                <a:latin typeface="Arial Rounded MT Bold"/>
              </a:rPr>
              <a:t>Записывая речь учителя, они ставят смайлики, и автоматически делают пометки на тетради и в мозгу "оффтоп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568800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Что делать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99720"/>
            <a:ext cx="8462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Следует помнить, что ребенок, для которого главным девизом жизни является «нельзя!», который не знает, что такое «вместе», который не получает ярких впечатлений и не имеет ничего по-настоящему своего, который уже потерял надежду всё это познать и обрести – скорее всего уйдёт в свой придуманный мир, а при наличие компьютерной игры – уйдёт в неё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Дайте ребенку возможность быть самостоятель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Научите ребенка управлять собой и вверенной ему самостоятельностью</a:t>
            </a:r>
            <a:r>
              <a:rPr b="1" lang="ru-RU" sz="18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Способствуйте как можно большему разнообразию опыта ребе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serv_parents"/>
          <p:cNvPicPr/>
          <p:nvPr/>
        </p:nvPicPr>
        <p:blipFill>
          <a:blip r:embed="rId1"/>
          <a:stretch/>
        </p:blipFill>
        <p:spPr>
          <a:xfrm>
            <a:off x="2928960" y="4143240"/>
            <a:ext cx="3146400" cy="2401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0228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Как предотвратить компьютерную зависимос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357200"/>
            <a:ext cx="5365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2d050"/>
                </a:solidFill>
                <a:latin typeface="Arial"/>
              </a:rPr>
              <a:t>Ограничивайте время компьютерных забав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Постарайтесь оградить ребенка от 3 до 5 лет от компьютерных игр, так как это наиболее ответственный период развития психики ребенк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2d050"/>
                </a:solidFill>
                <a:latin typeface="Arial"/>
              </a:rPr>
              <a:t>Играть в компьютер перед сном запрещается всем детя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Прививайте культуру психической саморегуляц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2d050"/>
                </a:solidFill>
                <a:latin typeface="Arial"/>
              </a:rPr>
              <a:t>Сами отберите и предложите своему малышу добрые игры. Устанавливайте с ним доверительные отношения, чтобы он и взрослея советовался, во что играть на компьюте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Игры, основанные на эмоционально положительных образах, способствуют творческому развитию и раскрытию психических возможностей ребенк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2d050"/>
                </a:solidFill>
                <a:latin typeface="Arial"/>
              </a:rPr>
              <a:t>Ни в коем случае не позволяйте ребенку развлекаться в компьютерном клубе ночью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Следите за тем, чтобы увлечение компьютером не подменяло живое общение ребенка со сверстниками</a:t>
            </a:r>
            <a:r>
              <a:rPr b="0" lang="ru-RU" sz="1500" spc="-1" strike="noStrike">
                <a:solidFill>
                  <a:srgbClr val="92d050"/>
                </a:solidFill>
                <a:latin typeface="Arial"/>
              </a:rPr>
              <a:t>.</a:t>
            </a:r>
            <a:br>
              <a:rPr sz="1500"/>
            </a:br>
            <a:r>
              <a:rPr b="0" lang="ru-RU" sz="15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004_big"/>
          <p:cNvPicPr/>
          <p:nvPr/>
        </p:nvPicPr>
        <p:blipFill>
          <a:blip r:embed="rId1"/>
          <a:stretch/>
        </p:blipFill>
        <p:spPr>
          <a:xfrm>
            <a:off x="5643720" y="3643200"/>
            <a:ext cx="334296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1 Título"/>
          <p:cNvGrpSpPr/>
          <p:nvPr/>
        </p:nvGrpSpPr>
        <p:grpSpPr>
          <a:xfrm>
            <a:off x="-96840" y="-49320"/>
            <a:ext cx="9337680" cy="4145040"/>
            <a:chOff x="-96840" y="-49320"/>
            <a:chExt cx="9337680" cy="4145040"/>
          </a:xfrm>
        </p:grpSpPr>
        <p:pic>
          <p:nvPicPr>
            <p:cNvPr id="61" name="1 Título" descr=""/>
            <p:cNvPicPr/>
            <p:nvPr/>
          </p:nvPicPr>
          <p:blipFill>
            <a:blip r:embed="rId1"/>
            <a:stretch/>
          </p:blipFill>
          <p:spPr>
            <a:xfrm>
              <a:off x="-96840" y="-49320"/>
              <a:ext cx="933768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42920" y="189000"/>
              <a:ext cx="88581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0" spc="-1" strike="noStrike">
                  <a:solidFill>
                    <a:srgbClr val="c00000"/>
                  </a:solidFill>
                  <a:latin typeface="Calibri"/>
                </a:rPr>
                <a:t>Влияние Интернета на детей.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85520" y="3143160"/>
            <a:ext cx="7459560" cy="9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c000"/>
                </a:solidFill>
                <a:latin typeface="Calibri"/>
              </a:rPr>
              <a:t>Интернет-зависимость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8b4"/>
                </a:solidFill>
                <a:latin typeface="Calibri"/>
              </a:rPr>
              <a:t>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b85d3476c15071786584b174295dbeb9"/>
          <p:cNvPicPr/>
          <p:nvPr/>
        </p:nvPicPr>
        <p:blipFill>
          <a:blip r:embed="rId2"/>
          <a:stretch/>
        </p:blipFill>
        <p:spPr>
          <a:xfrm>
            <a:off x="5214960" y="4143240"/>
            <a:ext cx="333072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52:29Z</dcterms:created>
  <dc:creator>Elizabeth</dc:creator>
  <dc:description/>
  <cp:keywords/>
  <dc:language>en-US</dc:language>
  <cp:lastModifiedBy>Павловский ПМПК</cp:lastModifiedBy>
  <dcterms:modified xsi:type="dcterms:W3CDTF">2023-12-07T10:48:46Z</dcterms:modified>
  <cp:revision>83</cp:revision>
  <dc:subject/>
  <dc:title>Влияние Интернета на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987259991</vt:lpwstr>
  </property>
</Properties>
</file>